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7C84-D4FF-4EE1-A2EC-1FD63B521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B178-7F32-4D73-AECB-9A3B70067D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C923-E407-4354-8327-ACE48F5E27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0D84-8742-421B-BA1C-24216799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4A3-581F-4E00-B584-F05F87DA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BB7-B36C-4B94-AA18-F572A0EA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F9B-9BD1-4795-B4FC-9FC87FFB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3A2C-30BF-4762-ADBC-A7624247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8934-62E2-4871-BC82-C128A6C9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192E-C1D5-47E8-964E-1A4F077D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35EE-3625-4177-9479-27A23DE4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BF95-2BC2-49AB-8240-C5A06702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CD56-A423-41DA-AD54-C1EF0578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6DF9-F5D8-46D7-B1FE-5AF34FBB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B1F-0E78-407F-904F-FA185721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53F7-B223-47D3-9983-D1F5DF3C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1836-FDF0-456B-8ECC-8703771A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16B5-4787-488C-AA55-41087DB3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4446-E0F1-468F-8444-E7706711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3A19-99D3-4746-8E64-048E0EAA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252-754F-4D92-98E9-E06DD7FE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B9A-76CC-49F1-83BC-981FB43E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931-BC17-4304-94DB-24681F45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166-48ED-4AC1-9470-907D21DD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2FD-939C-4532-AFF5-1AB88681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205-A56F-4EC5-B26D-58CAFCD4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2E4-E24B-48A9-8239-76CB1BBF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49E6-1D28-4A95-B010-9D8F749C63A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9B09-EC6F-480B-8B83-9D398E36BE8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705600" y="2133720"/>
            <a:ext cx="773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лассификация 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для горячей штамп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Объект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576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610160" cy="45309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391680" y="457200"/>
            <a:ext cx="820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же, но для случае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это обусловлено формой пок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297440" y="1219320"/>
            <a:ext cx="6630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епленные штам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ка на штампов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отах поковок всех фор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ласно классифика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ловиях массового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пносерийного производ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Объект 4" descr=""/>
          <p:cNvPicPr/>
          <p:nvPr/>
        </p:nvPicPr>
        <p:blipFill>
          <a:blip r:embed="rId1"/>
          <a:stretch/>
        </p:blipFill>
        <p:spPr>
          <a:xfrm>
            <a:off x="2916360" y="1600200"/>
            <a:ext cx="3311280" cy="45306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3103920" y="45720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ручь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Объект 4" descr=""/>
          <p:cNvPicPr/>
          <p:nvPr/>
        </p:nvPicPr>
        <p:blipFill>
          <a:blip r:embed="rId1"/>
          <a:stretch/>
        </p:blipFill>
        <p:spPr>
          <a:xfrm>
            <a:off x="1959120" y="1600200"/>
            <a:ext cx="5225760" cy="45306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"/>
          <p:cNvSpPr/>
          <p:nvPr/>
        </p:nvSpPr>
        <p:spPr>
          <a:xfrm>
            <a:off x="2785680" y="304920"/>
            <a:ext cx="34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ручь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401120" y="685800"/>
            <a:ext cx="6320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ка на штампов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отах поковок ти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л вращения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пп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поковок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груп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тикальными стенк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их периметр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ловиях крупносерийн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ассового производ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Объект 4" descr=""/>
          <p:cNvPicPr/>
          <p:nvPr/>
        </p:nvPicPr>
        <p:blipFill>
          <a:blip r:embed="rId1"/>
          <a:stretch/>
        </p:blipFill>
        <p:spPr>
          <a:xfrm>
            <a:off x="2835360" y="1600200"/>
            <a:ext cx="3473280" cy="4530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3027600" y="38088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ручь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Объект 4" descr=""/>
          <p:cNvPicPr/>
          <p:nvPr/>
        </p:nvPicPr>
        <p:blipFill>
          <a:blip r:embed="rId1"/>
          <a:stretch/>
        </p:blipFill>
        <p:spPr>
          <a:xfrm>
            <a:off x="3498840" y="1600200"/>
            <a:ext cx="2146320" cy="4530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3"/>
          <p:cNvSpPr/>
          <p:nvPr/>
        </p:nvSpPr>
        <p:spPr>
          <a:xfrm>
            <a:off x="2682360" y="380880"/>
            <a:ext cx="34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ручье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096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328400" y="2514600"/>
            <a:ext cx="653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крепленные (подкладные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428760" y="380880"/>
            <a:ext cx="8192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ка на ковочных молот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словиях средне- и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лкосерийного производства поков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носительно простой формы в одн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м ручье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ее сложной формы к примен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ваной заготовки или заготов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товленной в заготовительн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кладном штамп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46Z</dcterms:modified>
  <cp:revision>2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