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AA7F-8CFE-44B0-9CD7-26BE321AFC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B9FD-C92B-419F-B467-9D77378E00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0A08-2044-4616-9F53-975299A7CD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F0DC-D0C6-404B-8F50-98E3AE2BC1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D5C3-5C87-48AE-A139-A55402BC1F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9222-DFAA-4557-B6EC-14D5F56A82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699F-063F-46D2-AFF9-3A8EAA7EA5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4D29-DC69-4869-9905-64816729B3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8874-F292-4F47-9367-DBF2992061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FC6F-0D7E-4325-928A-98790E1335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66C9-F271-45C1-99E8-319528413A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0E00-BB30-4048-9FD8-D5D161E3C0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BF5D-5C0F-4B22-8B37-521ECA01E6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6309-0CB1-4B2D-981B-FF5D6A4E22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6C1C-E985-458A-8B9E-873F32CEBA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91BA-3401-4212-93D4-A03A66688A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614C-578A-408A-82C5-9B4A2FB6D8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8B6B-5E43-4ADE-A6DF-7D0698E9CD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FC92-27D7-4D8A-8FFC-2CCC592A35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CD4D-B1DF-402D-8C4E-F20AB1D5F8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A7B3-83E4-4BBA-AA6A-5F20C95490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6804-7D5A-4FDB-92FE-96E0916B75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F5BE-82CA-441C-B1A4-971BACB668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51EC-E1C7-4D67-9440-7A6D3CA941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30E0-D83F-4CAB-B759-EFD77A30FE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7A1B-0732-4DFC-8C90-C9150910D1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7A64-CF58-41A5-83AD-7DE6D6008B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BF9C-8F24-4CE1-B085-6F4863B3F6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FEB7-22B4-4EE4-BC27-7891A023D4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648F-CBE2-47EB-95BA-08F8DE0D1C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318B-CF51-44D5-875F-CD01AED5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370-717C-421D-B90B-C85FD155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E02-C868-4C9A-8C71-F26B2CA2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82D-DF7F-446E-B13C-0E83FEB7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14B8-710B-4EEE-B56E-E059ABCD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E8C6-20C9-4831-887A-F290D5AD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3C30-B714-49EC-8E1F-EA84C88D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DE71-BAA6-4389-8009-3D018B6A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50B1-3362-45A2-857F-C132FC43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8675-C4B4-4D30-92EE-D12C8E78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E430-7AA7-4FA7-8C22-8CA8F932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D27-E2F6-4854-9B00-278B06FA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37AF-5BFC-4E13-8A0E-A6D8AB33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575B-E1FD-4A6C-B764-DB968670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139B-9474-40FB-ADB5-A6782073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FA1F-7C27-4384-BBDE-D37F8618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9BEC-23F9-4B8E-8638-11956A6C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9E18-E69E-4164-99A6-064FF7DE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EC8F-BDEA-49CB-B364-934100D0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BA7-F122-41ED-99C7-24D14ADA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FFDB-C833-48D8-A1FC-734CEE5A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B13D-ED61-4AE5-B731-23361EC0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FF05-94EA-4EA8-95DD-96429D4F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F01-CCBC-4E7F-91DF-631C9945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B71A-6E92-4ADA-B9EC-1BC98BFE758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FBED-36D9-464C-8400-461E7B11585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683000" y="1371600"/>
            <a:ext cx="5874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Основные тип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совмещенных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комбинированных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штамп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Рисунок 1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51051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2088000" y="5562720"/>
            <a:ext cx="53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тяжки и форм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Рисунок 1" descr=""/>
          <p:cNvPicPr/>
          <p:nvPr/>
        </p:nvPicPr>
        <p:blipFill>
          <a:blip r:embed="rId1"/>
          <a:stretch/>
        </p:blipFill>
        <p:spPr>
          <a:xfrm>
            <a:off x="25560" y="304920"/>
            <a:ext cx="9144000" cy="42876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"/>
          <p:cNvSpPr/>
          <p:nvPr/>
        </p:nvSpPr>
        <p:spPr>
          <a:xfrm>
            <a:off x="2152440" y="4863960"/>
            <a:ext cx="520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брезки и форм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Рисунок 1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1157040" y="5638680"/>
            <a:ext cx="70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вытяжки и проби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Рисунок 1" descr=""/>
          <p:cNvPicPr/>
          <p:nvPr/>
        </p:nvPicPr>
        <p:blipFill>
          <a:blip r:embed="rId1"/>
          <a:stretch/>
        </p:blipFill>
        <p:spPr>
          <a:xfrm>
            <a:off x="19080" y="4680"/>
            <a:ext cx="9144000" cy="55310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2"/>
          <p:cNvSpPr/>
          <p:nvPr/>
        </p:nvSpPr>
        <p:spPr>
          <a:xfrm>
            <a:off x="1242000" y="577044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вытяжки и форм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Рисунок 1" descr=""/>
          <p:cNvPicPr/>
          <p:nvPr/>
        </p:nvPicPr>
        <p:blipFill>
          <a:blip r:embed="rId1"/>
          <a:stretch/>
        </p:blipFill>
        <p:spPr>
          <a:xfrm>
            <a:off x="31680" y="0"/>
            <a:ext cx="9144000" cy="61578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"/>
          <p:cNvSpPr/>
          <p:nvPr/>
        </p:nvSpPr>
        <p:spPr>
          <a:xfrm>
            <a:off x="1468440" y="6157800"/>
            <a:ext cx="673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вытяжки и обрез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Рисунок 1" descr=""/>
          <p:cNvPicPr/>
          <p:nvPr/>
        </p:nvPicPr>
        <p:blipFill>
          <a:blip r:embed="rId1"/>
          <a:stretch/>
        </p:blipFill>
        <p:spPr>
          <a:xfrm>
            <a:off x="685800" y="76320"/>
            <a:ext cx="7343640" cy="51242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607680" y="5392800"/>
            <a:ext cx="733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четырех и более совмещен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ерац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34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533520" y="3240"/>
            <a:ext cx="7934040" cy="62769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811440" y="6184800"/>
            <a:ext cx="742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и двукратной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Box 1"/>
          <p:cNvSpPr/>
          <p:nvPr/>
        </p:nvSpPr>
        <p:spPr>
          <a:xfrm>
            <a:off x="1748880" y="1905120"/>
            <a:ext cx="5874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Основные тип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последовательных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комбинированных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штамп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Рисунок 1" descr=""/>
          <p:cNvPicPr/>
          <p:nvPr/>
        </p:nvPicPr>
        <p:blipFill>
          <a:blip r:embed="rId1"/>
          <a:stretch/>
        </p:blipFill>
        <p:spPr>
          <a:xfrm>
            <a:off x="1447920" y="15840"/>
            <a:ext cx="5905440" cy="482904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1801080" y="5105520"/>
            <a:ext cx="51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Рисунок 1" descr=""/>
          <p:cNvPicPr/>
          <p:nvPr/>
        </p:nvPicPr>
        <p:blipFill>
          <a:blip r:embed="rId1"/>
          <a:stretch/>
        </p:blipFill>
        <p:spPr>
          <a:xfrm>
            <a:off x="905040" y="152280"/>
            <a:ext cx="7257960" cy="50389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2000520" y="5316480"/>
            <a:ext cx="50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и отрез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Рисунок 1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49636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2748600" y="5867280"/>
            <a:ext cx="5199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и проби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Рисун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7858080" cy="44769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1569600" y="5181480"/>
            <a:ext cx="530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и разрез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фигурной отрезк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Рисунок 1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8267760" cy="40478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"/>
          <p:cNvSpPr/>
          <p:nvPr/>
        </p:nvSpPr>
        <p:spPr>
          <a:xfrm>
            <a:off x="1077840" y="4572000"/>
            <a:ext cx="69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чеканки 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483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2"/>
          <p:cNvSpPr/>
          <p:nvPr/>
        </p:nvSpPr>
        <p:spPr>
          <a:xfrm>
            <a:off x="1338120" y="5557680"/>
            <a:ext cx="646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, надрезки, ги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рез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0" name="Рисунок 1" descr=""/>
          <p:cNvPicPr/>
          <p:nvPr/>
        </p:nvPicPr>
        <p:blipFill>
          <a:blip r:embed="rId1"/>
          <a:stretch/>
        </p:blipFill>
        <p:spPr>
          <a:xfrm>
            <a:off x="461880" y="76320"/>
            <a:ext cx="8220240" cy="59054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"/>
          <p:cNvSpPr/>
          <p:nvPr/>
        </p:nvSpPr>
        <p:spPr>
          <a:xfrm>
            <a:off x="496440" y="5987880"/>
            <a:ext cx="83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брезки, пробивки, гибки и отрез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Рисунок 1" descr=""/>
          <p:cNvPicPr/>
          <p:nvPr/>
        </p:nvPicPr>
        <p:blipFill>
          <a:blip r:embed="rId1"/>
          <a:stretch/>
        </p:blipFill>
        <p:spPr>
          <a:xfrm>
            <a:off x="-34920" y="33480"/>
            <a:ext cx="9144000" cy="50022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2"/>
          <p:cNvSpPr/>
          <p:nvPr/>
        </p:nvSpPr>
        <p:spPr>
          <a:xfrm>
            <a:off x="2060640" y="5175360"/>
            <a:ext cx="456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гибки, отрезки 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ончательной ги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Рисунок 1" descr=""/>
          <p:cNvPicPr/>
          <p:nvPr/>
        </p:nvPicPr>
        <p:blipFill>
          <a:blip r:embed="rId1"/>
          <a:stretch/>
        </p:blipFill>
        <p:spPr>
          <a:xfrm>
            <a:off x="507960" y="76320"/>
            <a:ext cx="8115480" cy="43624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2"/>
          <p:cNvSpPr/>
          <p:nvPr/>
        </p:nvSpPr>
        <p:spPr>
          <a:xfrm>
            <a:off x="1116000" y="4572000"/>
            <a:ext cx="666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следовательной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Рисунок 1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43480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1011960" y="4643280"/>
            <a:ext cx="687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следовательной вытяжки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ивки 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6" name="Рисунок 1" descr=""/>
          <p:cNvPicPr/>
          <p:nvPr/>
        </p:nvPicPr>
        <p:blipFill>
          <a:blip r:embed="rId1"/>
          <a:stretch/>
        </p:blipFill>
        <p:spPr>
          <a:xfrm>
            <a:off x="290520" y="0"/>
            <a:ext cx="8534520" cy="44388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2"/>
          <p:cNvSpPr/>
          <p:nvPr/>
        </p:nvSpPr>
        <p:spPr>
          <a:xfrm>
            <a:off x="1785960" y="457200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, отборт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0" name="Рисунок 1" descr=""/>
          <p:cNvPicPr/>
          <p:nvPr/>
        </p:nvPicPr>
        <p:blipFill>
          <a:blip r:embed="rId1"/>
          <a:stretch/>
        </p:blipFill>
        <p:spPr>
          <a:xfrm>
            <a:off x="95400" y="76320"/>
            <a:ext cx="8896320" cy="41623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3"/>
          <p:cNvSpPr/>
          <p:nvPr/>
        </p:nvSpPr>
        <p:spPr>
          <a:xfrm>
            <a:off x="1190160" y="4495680"/>
            <a:ext cx="690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следовательной вытяжк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ивки, отбортовки 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Рисунок 1" descr=""/>
          <p:cNvPicPr/>
          <p:nvPr/>
        </p:nvPicPr>
        <p:blipFill>
          <a:blip r:embed="rId1"/>
          <a:stretch/>
        </p:blipFill>
        <p:spPr>
          <a:xfrm>
            <a:off x="733320" y="1657440"/>
            <a:ext cx="76773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743680" cy="58197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2301840" y="6095880"/>
            <a:ext cx="47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брезки проби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Рисунок 1" descr=""/>
          <p:cNvPicPr/>
          <p:nvPr/>
        </p:nvPicPr>
        <p:blipFill>
          <a:blip r:embed="rId1"/>
          <a:stretch/>
        </p:blipFill>
        <p:spPr>
          <a:xfrm>
            <a:off x="152280" y="-149400"/>
            <a:ext cx="8763120" cy="61056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"/>
          <p:cNvSpPr/>
          <p:nvPr/>
        </p:nvSpPr>
        <p:spPr>
          <a:xfrm>
            <a:off x="997560" y="6107040"/>
            <a:ext cx="72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и чеканки (формовк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Рисунок 1" descr=""/>
          <p:cNvPicPr/>
          <p:nvPr/>
        </p:nvPicPr>
        <p:blipFill>
          <a:blip r:embed="rId1"/>
          <a:stretch/>
        </p:blipFill>
        <p:spPr>
          <a:xfrm>
            <a:off x="133200" y="152280"/>
            <a:ext cx="9010800" cy="60008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"/>
          <p:cNvSpPr/>
          <p:nvPr/>
        </p:nvSpPr>
        <p:spPr>
          <a:xfrm>
            <a:off x="2509920" y="6167520"/>
            <a:ext cx="42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трезки и ги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Рисунок 1" descr=""/>
          <p:cNvPicPr/>
          <p:nvPr/>
        </p:nvPicPr>
        <p:blipFill>
          <a:blip r:embed="rId1"/>
          <a:stretch/>
        </p:blipFill>
        <p:spPr>
          <a:xfrm>
            <a:off x="905040" y="6480"/>
            <a:ext cx="7353000" cy="64008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1840320" y="6254640"/>
            <a:ext cx="58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и отборт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Рисунок 1" descr=""/>
          <p:cNvPicPr/>
          <p:nvPr/>
        </p:nvPicPr>
        <p:blipFill>
          <a:blip r:embed="rId1"/>
          <a:stretch/>
        </p:blipFill>
        <p:spPr>
          <a:xfrm>
            <a:off x="7920" y="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2325960" y="6249960"/>
            <a:ext cx="498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и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Рисунок 1" descr=""/>
          <p:cNvPicPr/>
          <p:nvPr/>
        </p:nvPicPr>
        <p:blipFill>
          <a:blip r:embed="rId1"/>
          <a:stretch/>
        </p:blipFill>
        <p:spPr>
          <a:xfrm>
            <a:off x="266760" y="0"/>
            <a:ext cx="8562960" cy="62485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"/>
          <p:cNvSpPr/>
          <p:nvPr/>
        </p:nvSpPr>
        <p:spPr>
          <a:xfrm>
            <a:off x="2155320" y="6184800"/>
            <a:ext cx="522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тяжки и проби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1:53Z</dcterms:modified>
  <cp:revision>1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