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E27-8759-4039-AEC8-EF69B8B8F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EF1-DB0E-4A5F-91C1-D52FB7B3EC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533-A480-476F-A50B-FAEEAA0330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3ACD-45E3-4D83-B0B3-D7BF4A6A1D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6894-48C3-483F-94BC-2341783533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9AE-69E7-4899-BF8A-7FD4F91A53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6B0-CCCD-4E2F-A221-7D64FA383A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B84-5691-4261-9C86-EF0B7866E7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FB7-C789-4107-B71C-9322A22443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1A2-58E1-4438-810A-912688C181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016F-847A-4F72-B4A6-620AFE4CB8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3BE5-B116-47D6-8AFB-76472F375E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2EB-6AF3-4F8B-B1F7-404B4557AF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F32D-5740-4841-A35E-A4B741179F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AE0-2E03-4265-AA6C-4BA7FC37C2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A4DC-FFFD-4A19-B59F-FEF9D9C556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D72-129A-48B3-91BD-96811D2745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FC4-6695-445C-8CB6-C1A7E8ED30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672E-5C5C-43C8-A4E2-A15E78A589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F867-4EA7-4B5A-AE04-CD2E159BB9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FC69-0637-44A4-A3C6-2CC8AF8D89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4D7-0691-443C-9A31-4836349AFC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FFCC-2F88-4760-B43C-5D4A0F39B7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927-EABE-4F66-9F3D-45A26371E5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B1F-18C8-4E62-A796-AA097C6C31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A74-F7E9-4388-A9B2-8DD965CBF9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AA3-B828-469F-A8E0-2E1F248373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DF13-3224-4FDB-8F13-872A737105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A3AF-2545-4EDD-9A19-038F9E5B70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A2C-EC92-4A66-ABB9-0798FB3E2E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711-594F-4F41-AFB3-524A872E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45E-D677-4BBA-8832-1EE451F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FD8-DF4A-4EEA-9081-E320FAD9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81B-171D-480E-A89D-7DDF5185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13F8-0DEF-4C80-9314-D89402C0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8D13-3D9B-4FFA-830D-4012DA05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5585-4CA1-4CF8-8BF8-D310DA0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6C6-AA68-4B34-92CC-E8F33DCA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D1E6-FA44-4092-ADA5-80CA5DFD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0838-F8C5-4B29-BD2A-6BE488EB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F1C4-1CD4-435D-926A-6A2F8D3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7EF-DC76-4959-AECD-7EBE8121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90E8-A9E9-4A11-BF2A-E2077D2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B6E5-F392-44B9-BF16-4A395626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AE6-3EAF-492C-85C9-715DA71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F125-CE22-41E6-88AB-B81BB727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029-3D9B-451F-B581-520D6542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D3F-A388-4AAA-AB0F-9FB272C9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A1B-82DF-45D5-ACAF-AA72729C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837-E8A1-4F36-AF72-13997C10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CD1-4017-4715-8EE1-ED32325F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22-6AE8-488E-9BA2-7557FCE2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394-54B9-46D9-A197-591BF6C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B7A-D4C3-4DC2-A865-735F019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0D1A-8420-483D-B32B-B7479989A81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AFB3-EA84-4822-B092-20025411A10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714680" y="2209680"/>
            <a:ext cx="545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ы стандартных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изова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риме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228600" y="12952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20" y="-360"/>
            <a:ext cx="9524880" cy="70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1"/>
          <a:stretch/>
        </p:blipFill>
        <p:spPr>
          <a:xfrm>
            <a:off x="979560" y="304920"/>
            <a:ext cx="7210440" cy="44672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2"/>
          <p:cNvSpPr/>
          <p:nvPr/>
        </p:nvSpPr>
        <p:spPr>
          <a:xfrm>
            <a:off x="1018080" y="4952880"/>
            <a:ext cx="713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 с осе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0÷12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474120" y="2209680"/>
            <a:ext cx="768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кругл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ышенной точности из шту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полосов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мпаундные штампы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лектромашиностроени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4981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304200" y="5105520"/>
            <a:ext cx="853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с осе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18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98440" y="2057400"/>
            <a:ext cx="825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мелких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преимущественно в часов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иоэлектронной промышл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ся блоки без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улок, с втулками, с шариковы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2013120" y="-76320"/>
            <a:ext cx="5105160" cy="5459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674640" y="5407200"/>
            <a:ext cx="803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цизионные с подвижной направляющ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итой, диагональным и углов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положением направляющих колон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1685880" y="76320"/>
            <a:ext cx="4943520" cy="51559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390240" y="5278320"/>
            <a:ext cx="8396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ецизионные с общим направлением верхней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 подвижной направляющей плиты, с угловым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расположением четырех направляющих колонок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529920" y="2176560"/>
            <a:ext cx="8128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следовательной штамп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чных деталей из тонкого материал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имущественно при штампо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ессах-автомат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1208520" y="2819520"/>
            <a:ext cx="645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кеты вытяж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ссов просто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928800" y="0"/>
            <a:ext cx="7286400" cy="53341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2897640" y="5638680"/>
            <a:ext cx="301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677160" y="2325600"/>
            <a:ext cx="711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 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495360" y="-228600"/>
            <a:ext cx="8010360" cy="54100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1648800" y="5222880"/>
            <a:ext cx="538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дни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=60÷500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314360" y="76320"/>
            <a:ext cx="6534360" cy="51339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3067920" y="563868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784880" y="2666880"/>
            <a:ext cx="57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1905120" y="0"/>
            <a:ext cx="5676840" cy="6039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3237480" y="617220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2124720" y="2568600"/>
            <a:ext cx="436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ой заго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Рисунок 1" descr=""/>
          <p:cNvPicPr/>
          <p:nvPr/>
        </p:nvPicPr>
        <p:blipFill>
          <a:blip r:embed="rId1"/>
          <a:stretch/>
        </p:blipFill>
        <p:spPr>
          <a:xfrm>
            <a:off x="1828800" y="0"/>
            <a:ext cx="5676840" cy="60102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3144600" y="609588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1708560" y="2895480"/>
            <a:ext cx="57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Рисунок 2" descr=""/>
          <p:cNvPicPr/>
          <p:nvPr/>
        </p:nvPicPr>
        <p:blipFill>
          <a:blip r:embed="rId1"/>
          <a:stretch/>
        </p:blipFill>
        <p:spPr>
          <a:xfrm>
            <a:off x="1371600" y="27000"/>
            <a:ext cx="6105600" cy="56484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2863440" y="586728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л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1740960" y="2685960"/>
            <a:ext cx="567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овмещенной вырез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тяжки на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го 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Рисунок 1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86480" cy="43149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2037600" y="4749840"/>
            <a:ext cx="48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1708560" y="2666880"/>
            <a:ext cx="572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а провал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376200" y="1981080"/>
            <a:ext cx="855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ычной штамповки детале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ней сложности и  точ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полосовых и штучн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рубные, пробивные, гибочные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е и комбинированные штампы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Объект 3" descr=""/>
          <p:cNvPicPr/>
          <p:nvPr/>
        </p:nvPicPr>
        <p:blipFill>
          <a:blip r:embed="rId1"/>
          <a:stretch/>
        </p:blipFill>
        <p:spPr>
          <a:xfrm>
            <a:off x="1828800" y="36360"/>
            <a:ext cx="5294160" cy="45309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"/>
          <p:cNvSpPr/>
          <p:nvPr/>
        </p:nvSpPr>
        <p:spPr>
          <a:xfrm>
            <a:off x="2084040" y="4800600"/>
            <a:ext cx="49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201040" y="2514600"/>
            <a:ext cx="436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ерво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ской загот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Объект 3" descr=""/>
          <p:cNvPicPr/>
          <p:nvPr/>
        </p:nvPicPr>
        <p:blipFill>
          <a:blip r:embed="rId1"/>
          <a:stretch/>
        </p:blipFill>
        <p:spPr>
          <a:xfrm>
            <a:off x="2057400" y="34920"/>
            <a:ext cx="5022720" cy="45306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2101320" y="4876920"/>
            <a:ext cx="51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угольные, 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632600" y="2514600"/>
            <a:ext cx="572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торой и последу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ераций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бчат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ижим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876240" y="7632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916920" y="4800600"/>
            <a:ext cx="688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иагональн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5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334440" y="2133720"/>
            <a:ext cx="8538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более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при работе из поло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ыстроход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ырубные и последовательные штам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550800" y="152280"/>
            <a:ext cx="7991640" cy="4305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369720" y="4648320"/>
            <a:ext cx="840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севым (симметричным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ением 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50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345960" y="1338120"/>
            <a:ext cx="84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мелких точ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ным образом из штучных заготов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робивные, гибочные, зачистны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е и комбинированные штамп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Рисунок 1" descr=""/>
          <p:cNvPicPr/>
          <p:nvPr/>
        </p:nvPicPr>
        <p:blipFill>
          <a:blip r:embed="rId1"/>
          <a:stretch/>
        </p:blipFill>
        <p:spPr>
          <a:xfrm>
            <a:off x="609480" y="25560"/>
            <a:ext cx="8001000" cy="47908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1148400" y="4952880"/>
            <a:ext cx="68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угловым располож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тырех направляющих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535680" y="2054160"/>
            <a:ext cx="779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ки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больших штучных заготовок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для многопозицион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овательн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25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