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AF36-F12E-42AC-92FE-08BCFC15A7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522E-2543-4DC1-8537-DC7FC1E4FD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B64F-528A-4308-A0B9-AD6EC57636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A2DD-017A-44FE-9760-772D365B9D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70D7-98B3-4EB0-953B-892DCFCA2A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094D-BE12-46A9-B3E8-F7D7410A81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6A6F-AB41-4351-B0FD-BB12455FF8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D790-4074-48AF-8514-490D9C1E3E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6910-28A0-46DA-9C5D-4EEFDB96C4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149D-E31E-4F78-AE32-D4C3E96C5C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912A-A819-4D9F-8B71-36CF34BC5B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8599-66D3-43B1-B096-6EAC85C55F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7041-588B-448D-B17B-F8364E2964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83CE-1BB1-4062-8644-4ABB71B310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6CA7-438D-4FF1-BD15-0F1400C6F1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8DE1-D69C-4840-911E-6498105854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BAE9-4B4A-4528-AE6D-8BD0011873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E9C4-8344-491C-8829-F0DB83FF0D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7E06-1F43-4C76-A053-4054F3CC5E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9B2D-16E9-46AD-99EF-6F1AB0FA02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C228-70B5-4661-AB53-B18C4A08AB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DCCA-11FA-471B-B77E-FDF942A221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B66F-5D0D-401F-9113-4A027DE8C9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B817-1CE6-4968-BCE4-0A1872C87B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C75E-1569-49F7-84CB-08E8FFD385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CFB6-64DC-41F4-8CD7-8618778DDF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9B93-BA38-4614-8427-232762EBF1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146-31A3-47C0-BB5B-DC18DB02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700-3E6D-421B-8C58-CFD9E011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AA2-6764-4703-9BE8-3E37567E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DF5-E7AC-4650-AEEF-D25607E7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55B5-B0C5-4397-8057-47B3EAE9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5E3C-F0E6-4C57-A7CD-C488C5AD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1E06-74BD-44D0-87E1-92FE01BA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E252-A142-4F2D-B5F3-521226E7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7260-8423-4D2C-8112-B17A1D92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0094-3933-4EC4-B96A-6A36B1E8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71C1-4647-4708-BA19-230A6EE7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5D3-E3F6-4176-AD35-972B5AD7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03BB-22D8-43C2-97E6-C4F9FCBA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1D6F-2719-4A2A-BA44-4BD01EA4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1B0B-EC6D-4B05-81B0-738A61EB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9A31-B543-4D3C-B472-C689BF29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8915-BD0A-4C86-B337-AD4C10BE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E39-CB1C-4B93-A7E7-FFDCC9CE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796-7624-420A-97A7-D4EF0852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12B-0824-4174-A51A-00893B5D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B76-7502-4D35-B7FD-232E7D3C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AC5-221D-4591-BB4F-5E026D45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F2B-4D15-46E5-9C07-EDB7B10D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EAF-D83B-49B5-9D39-87E73FCA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60F8-2FE0-465E-AA76-51DCA6D83C2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20AD-FFFE-482D-A97B-CACE948D529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1324080" y="1371600"/>
            <a:ext cx="6592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сновны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нструктивны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элемент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листовой штампов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1175040" y="1600200"/>
            <a:ext cx="6973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цизионных блок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 при работе 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ходных пресса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коротком рабочем ход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нка по шариковым втулка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тягом 0,005 – 0,007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2444040" y="4648320"/>
            <a:ext cx="43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пенча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заводская нормал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70768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191680" y="1600200"/>
            <a:ext cx="490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крупных штамп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80 и 10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правляющей ча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довая посад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-го класса точ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2229840" y="2286000"/>
            <a:ext cx="491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аправляющи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тул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1710000" y="5477040"/>
            <a:ext cx="582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дкие по ГОСТ 13120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-го и 2-го класса точност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266760" y="304920"/>
            <a:ext cx="86104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1476360" y="2332080"/>
            <a:ext cx="636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тандарт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12 до 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3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1324080" y="5613480"/>
            <a:ext cx="639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пенчатые по ГОСТ 13121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-го и 2-го класса точност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1"/>
          <a:stretch/>
        </p:blipFill>
        <p:spPr>
          <a:xfrm>
            <a:off x="836640" y="304920"/>
            <a:ext cx="73724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1175400" y="2514600"/>
            <a:ext cx="711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ормализован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прессовки нужна довод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хонингование) отверст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12 до 10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1494000" y="5410080"/>
            <a:ext cx="631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линенные по ГОСТ 13122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-го и 2-го класса точност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762120" y="297000"/>
            <a:ext cx="77817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900360" y="1828800"/>
            <a:ext cx="765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штампов, требующих больш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ины рабочего ход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 запрессовки рабочий диамет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улки не уменьш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падает последующая довод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12 до 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924920" y="2362320"/>
            <a:ext cx="491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аправляющи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колон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1655280" y="4267080"/>
            <a:ext cx="58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е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риковых направляющи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1952640" y="838080"/>
            <a:ext cx="523872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599760" y="1927080"/>
            <a:ext cx="786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цизионных блок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емых при штамповке точ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, особенно при штампов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ыстроходных пресс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алым ход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1033560" y="4267080"/>
            <a:ext cx="72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параторы с шариковы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ми по ГОСТ 14678-6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Рисунок 1" descr=""/>
          <p:cNvPicPr/>
          <p:nvPr/>
        </p:nvPicPr>
        <p:blipFill>
          <a:blip r:embed="rId1"/>
          <a:stretch/>
        </p:blipFill>
        <p:spPr>
          <a:xfrm>
            <a:off x="2171880" y="1447920"/>
            <a:ext cx="49528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847440" y="1447920"/>
            <a:ext cx="759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цизион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штамп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эффициент трения ка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20 раз меньш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эффициента трения скольж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рики при качении между втул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лонкой создают натя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005 – 0,007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304000" y="1905120"/>
            <a:ext cx="3664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Хвостови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дл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штамп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1739880" y="5778360"/>
            <a:ext cx="56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той (заводская нормаль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Рисунок 1" descr=""/>
          <p:cNvPicPr/>
          <p:nvPr/>
        </p:nvPicPr>
        <p:blipFill>
          <a:blip r:embed="rId1"/>
          <a:stretch/>
        </p:blipFill>
        <p:spPr>
          <a:xfrm>
            <a:off x="1814400" y="184320"/>
            <a:ext cx="551520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821160" y="2590920"/>
            <a:ext cx="756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ебольших штамп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ливается в одно цел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хней плитой и обрабатыв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1818720" y="5403960"/>
            <a:ext cx="606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уртиком по ГОСТ 16715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1709640" y="228600"/>
            <a:ext cx="57913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751320" y="1903320"/>
            <a:ext cx="7710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видов блочных и пакет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спечивает наилучшую центровк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ерпендикулярность ос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Объект 3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667400" cy="45306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1884960" y="4952880"/>
            <a:ext cx="581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езьбой по ГОСТ 16716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1762920" y="5486400"/>
            <a:ext cx="582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дкие по ГОСТ 13118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-го и 2-го класса точности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Рисунок 1" descr=""/>
          <p:cNvPicPr/>
          <p:nvPr/>
        </p:nvPicPr>
        <p:blipFill>
          <a:blip r:embed="rId1"/>
          <a:stretch/>
        </p:blipFill>
        <p:spPr>
          <a:xfrm>
            <a:off x="371520" y="1295280"/>
            <a:ext cx="86104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631800" y="1676520"/>
            <a:ext cx="776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с направляющ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нками главным образом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очных, вытяжных и прочих рабо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ных штампов применя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пор. Небольшая погрешность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пендикулярности к плоск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Объект 3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752560" cy="45306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"/>
          <p:cNvSpPr/>
          <p:nvPr/>
        </p:nvSpPr>
        <p:spPr>
          <a:xfrm>
            <a:off x="1984680" y="5097600"/>
            <a:ext cx="521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езьбой и буртиком п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Т 16715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1548720" y="2286000"/>
            <a:ext cx="589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же, что и выше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огрешность меньше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новка стопорного вин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обне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2" name="Объект 3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523040" cy="45306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1952280" y="5006880"/>
            <a:ext cx="537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оустанавливающий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лавающий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ибковы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Box 3"/>
          <p:cNvSpPr/>
          <p:nvPr/>
        </p:nvSpPr>
        <p:spPr>
          <a:xfrm>
            <a:off x="1092960" y="1676520"/>
            <a:ext cx="6926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цизионных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ми колонкам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ющими без схо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правляющи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мелкой и точной штампов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Объект 3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4926240" cy="4530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1607760" y="5105520"/>
            <a:ext cx="59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фланцем по ГОСТ 16718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934200" y="1371600"/>
            <a:ext cx="703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упных штампах 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ими колонкам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хвостовик служит д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овой установки или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ах, где по конструктив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ображениям нельзя примени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остовик другой конструк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Объект 3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756320" cy="45306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1654560" y="5029200"/>
            <a:ext cx="588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оустанавливающий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ферическим вкладыш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6719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505080" y="457200"/>
            <a:ext cx="7802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цизионных вырубны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щенных и последовательны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тампа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особенности 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вердосплавными пуансон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атриц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ление хвостовика 1 переда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сферический вкладыш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пятнику 3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небольшом перекосе хвостов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тр давления практичес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еня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2735640" y="2674800"/>
            <a:ext cx="302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ружин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2183400" y="2286000"/>
            <a:ext cx="52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тандартных блок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от 12 до 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Объект 3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30600" cy="453060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1505880" y="4876920"/>
            <a:ext cx="60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собы установки пруж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зависимой регулиров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жат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2751120" y="2743200"/>
            <a:ext cx="319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Пуансон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9" name="Объект 3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608360" cy="45306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4"/>
          <p:cNvSpPr/>
          <p:nvPr/>
        </p:nvSpPr>
        <p:spPr>
          <a:xfrm>
            <a:off x="2749320" y="5032440"/>
            <a:ext cx="367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аплеч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6621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1972440" y="2362320"/>
            <a:ext cx="517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ом до 5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 &gt; 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5" name="Объект 3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695840" cy="40003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4"/>
          <p:cNvSpPr/>
          <p:nvPr/>
        </p:nvSpPr>
        <p:spPr>
          <a:xfrm>
            <a:off x="2260440" y="4572000"/>
            <a:ext cx="47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иленный с бурт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6623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1783080" y="1600200"/>
            <a:ext cx="519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ом от 5 до 26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 &gt; 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удельной нагрузк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ыше 100 МП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ть проклад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1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067360" cy="45050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2260440" y="5105520"/>
            <a:ext cx="478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иленный с бурт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6625-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Box 3"/>
          <p:cNvSpPr/>
          <p:nvPr/>
        </p:nvSpPr>
        <p:spPr>
          <a:xfrm>
            <a:off x="907200" y="2006640"/>
            <a:ext cx="7383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диаметром от 26 до 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диаметре свыше 40 мм в торц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ть выточку для уменьш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рхности шлифова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удельной нагрузки свыш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0 МПа применять проклад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7" name="Объект 3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667120" cy="35049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216960" y="42670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став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634320" y="2289240"/>
            <a:ext cx="78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 и выруб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алей диаметром от 50 до 25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целью экономии инструменталь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и, наставка делается сменн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1588680" y="5562720"/>
            <a:ext cx="630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роточкой по ГОСТ 13119-7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-го и 2-го класса точ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1"/>
          <a:stretch/>
        </p:blipFill>
        <p:spPr>
          <a:xfrm>
            <a:off x="282600" y="304920"/>
            <a:ext cx="86868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3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991040" cy="40100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4"/>
          <p:cNvSpPr/>
          <p:nvPr/>
        </p:nvSpPr>
        <p:spPr>
          <a:xfrm>
            <a:off x="1118520" y="4495680"/>
            <a:ext cx="74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ерживаемый расклепкой гол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не нормализован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726840" y="1676520"/>
            <a:ext cx="7745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ользуется в пакетных штампах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 в случае близк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оложения пробивных пуансон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нструктивной невозмож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ения пуансонов с буртик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нять проклад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664200" y="2133720"/>
            <a:ext cx="771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Типы рабочих отверсти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вырубных и пробивных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атри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2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981680" cy="40860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3154320" y="4795920"/>
            <a:ext cx="32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с шейк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Box 3"/>
          <p:cNvSpPr/>
          <p:nvPr/>
        </p:nvSpPr>
        <p:spPr>
          <a:xfrm>
            <a:off x="914040" y="990720"/>
            <a:ext cx="7288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деталей сложн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фигурации. Высота шейк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пустимое отклонение угла (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утся в зависимости от толщи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ериал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до 0,5 мм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3÷5 мм,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0,5÷5 мм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5÷10 мм,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20´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5÷10 мм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÷15 мм,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30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ол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от 3 до 5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8" name="Объект 3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352760" cy="32194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4"/>
          <p:cNvSpPr/>
          <p:nvPr/>
        </p:nvSpPr>
        <p:spPr>
          <a:xfrm>
            <a:off x="2831760" y="3886200"/>
            <a:ext cx="348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конус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TextBox 3"/>
          <p:cNvSpPr/>
          <p:nvPr/>
        </p:nvSpPr>
        <p:spPr>
          <a:xfrm>
            <a:off x="866880" y="304920"/>
            <a:ext cx="7311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ырубки небольши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й конфигурации. Угол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тся в зависимости от толщи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ериал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0,5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0÷15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5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15÷20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1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20÷30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30÷45´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÷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 мм 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α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45´÷1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указанных углах возмож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ая перешлифов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рицы по толщи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4" name="Объект 3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5553000" cy="40482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2165400" y="4724280"/>
            <a:ext cx="50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призматическ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986760" y="2209680"/>
            <a:ext cx="696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вырубке деталей с обрат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талкиванием в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щенного типа и в случа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рубки крупных детал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0" name="Объект 3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819680" cy="36478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1846080" y="4343400"/>
            <a:ext cx="540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п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, с цилиндрически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шире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1734480" y="2743200"/>
            <a:ext cx="556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тандартных 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рмализованных блок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от 12 до 10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430920" y="1752480"/>
            <a:ext cx="829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углых вставных матриц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обивки отверстий (до 25 мм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илиндрическое уширение да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целью упрощения изгото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рицы. Высота шейки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 допуст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лонение угла (</a:t>
            </a:r>
            <a:r>
              <a:rPr b="0" lang="el-GR" sz="3200" spc="-1" strike="noStrike">
                <a:solidFill>
                  <a:srgbClr val="ffffff"/>
                </a:solidFill>
                <a:latin typeface="Verdana"/>
              </a:rPr>
              <a:t>Δ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 берутся 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имости от толщины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Направляющие планк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и боковые прижим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8" name="Объект 3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86400" cy="3448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1936800" y="5486400"/>
            <a:ext cx="49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льцы направля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461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1053000" y="1981080"/>
            <a:ext cx="7215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крытых штампах с пружин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жимом-съемником или пр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е на пробивных пресс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ъемником укрепленны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анине пресс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Объект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105680" cy="36860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2254320" y="570240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нки направляющ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с жестким съемн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лос средней и большо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ины (свыше 60 мм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9" name="Объект 3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916680" cy="342900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1136520" y="5307120"/>
            <a:ext cx="718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ъемники с направляющим паз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138320" y="2209680"/>
            <a:ext cx="685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тампах с жестким съемник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узких поло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иной до 60 м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781520" cy="32194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1579320" y="4948200"/>
            <a:ext cx="610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ковой прижим пружин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Т 18765-7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овательных штамп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ентрированного переме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осы или лен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ина прижи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лебание ширины полосы) 2-3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щина пружин от 0,5 до 1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1949400" y="4572000"/>
            <a:ext cx="49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е гладк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Рисунок 1" descr=""/>
          <p:cNvPicPr/>
          <p:nvPr/>
        </p:nvPicPr>
        <p:blipFill>
          <a:blip r:embed="rId1"/>
          <a:stretch/>
        </p:blipFill>
        <p:spPr>
          <a:xfrm>
            <a:off x="1452600" y="1209600"/>
            <a:ext cx="6114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Спасиб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Verdana"/>
              </a:rPr>
              <a:t>внимание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1159200" y="1295280"/>
            <a:ext cx="6711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рецизионных блок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аправляющих втул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аметр от 14 до 30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щая часть колон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гоняется по направляющи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иям верхних пли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зазором 0,001 – 0,003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1611720" y="4191120"/>
            <a:ext cx="59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цизионные ступенчаты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Рисунок 1" descr=""/>
          <p:cNvPicPr/>
          <p:nvPr/>
        </p:nvPicPr>
        <p:blipFill>
          <a:blip r:embed="rId1"/>
          <a:stretch/>
        </p:blipFill>
        <p:spPr>
          <a:xfrm>
            <a:off x="1501920" y="762120"/>
            <a:ext cx="61340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унин</dc:creator>
  <dc:description/>
  <dc:language>en-US</dc:language>
  <cp:lastModifiedBy>TFiHOM</cp:lastModifiedBy>
  <dcterms:modified xsi:type="dcterms:W3CDTF">2022-10-19T09:11:08Z</dcterms:modified>
  <cp:revision>1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