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F083-9E85-41BC-99FB-536DF4E41F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70BC-B21F-4E12-8FD9-C2A60CF534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04E3-68CA-4FEA-8CD5-7EED103375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33C-7711-42FC-8C70-E40A1787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BED-BA97-4F78-96CF-E4C9DFD5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15B-5762-4B81-A31E-6235E03D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0C6-48D0-4A5D-B9A5-24A88CEC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186C-E57C-4C6F-8D10-4B6DFBEC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58E4-C26A-469E-AFC2-983EA06D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1FE5-A2AC-4ACD-A37E-EB78360A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055E-C500-4170-A2A3-57555ADD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EA7E-3D7F-4F51-9835-D137D685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7DE1-9957-43E1-8DB2-379CD4C3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4504-5491-41AB-95A9-E489BAD8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5494-9A33-4335-96DF-13B511F8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1287-3927-4B9B-B67A-A420BA2B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B852-D24C-41DF-B4DD-1225E0C9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F803-66FC-4C73-BDC3-DF05CCA5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0336-3996-49DB-9485-3D9D2851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068F-07BB-4F67-A6CB-DAA87D20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EA56-7B97-4EB2-8D30-AFF78D0A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593-89BF-472C-8974-6D566215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6F6-5198-4659-B066-99A5D01F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9A0-E21F-463F-A223-9828DAE3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149-A84B-4EB3-AC55-938BB8F9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EDF-D776-474F-9C77-9CF83145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83F-4E58-4D89-9D5D-928278C8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EFC8-6B2B-43B8-8344-99B85B84C7B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530C-0F56-496A-BDED-926E19410FF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142280" y="1371600"/>
            <a:ext cx="6956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атериалы,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рименяемые пр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изготовлении детале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листовой штампов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992160" y="1600200"/>
            <a:ext cx="698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массы на основе акрилов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 (акрилопласты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СТ-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акрилат самотвердеющ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хнический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стиракрил (протакрил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750960" y="2133720"/>
            <a:ext cx="7124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массы но основ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енольноформальдегидных смол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евесно-клеевая мас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КМ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песко-клеевая мас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К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511560" y="990720"/>
            <a:ext cx="8277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овой оснаст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изгото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риц, пуансонов, съемнико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феров, прижимов и други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ют литьевой полиурета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ок СКУ-7Л, СКУ-ПФЛ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ребующ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ительной вулканиза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иуретан этих марок легко поддае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видам обработки резание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574920" y="609480"/>
            <a:ext cx="8033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енности полиуретана: 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четание пластичности с твёрдостью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ое сопротивление истиранию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ое сопротивление на разрыв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ое сопротивление сжати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до 250÷300 МПа)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ая стойкость пр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рных нагрузках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кость к действию масел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авленных кисло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ругих вещест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80880" y="304920"/>
          <a:ext cx="8305920" cy="549576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13372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тали штамп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арка сталей и материа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екоменду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Замен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ы и матрицы пробивные и пробивные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ростой фор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ложной фор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10, У10А, Х12Ф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ВМ, Х6ВФ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6М5, ВК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5ХВ2С, ШХ15, Х12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7ХГ2ВФМ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ы и матрицы для чистов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ырубки-пробивки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ростой фор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ложной фор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Ф1, Х6В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ВМ, Р6М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7ХГ2ВФМ, Р6М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ы и матрицы вытяжные и формовоч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10А, Х12, ВК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Ф1, Х6В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ы и матрицы гибоч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10А, Х6В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10, Х12Ф, ШХ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8" name="Заголовок 1"/>
          <p:cNvSpPr/>
          <p:nvPr/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304920"/>
          <a:ext cx="8305920" cy="604512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13372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тали штамп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арка сталей и материа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екоменду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Замен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ы и матрицы для холодного выдавливания алюминия и ме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М, Р6М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12Ф1, 7ХГ2ВФМ, Р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литы штампов лит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Чугун СЧ21-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Чугун СЧ22-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30Л, Сталь 40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литы штампов осталь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0, Сталь 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Хвостов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35, Сталь 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4, Ст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Колонки направляющ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20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5, Сталь 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тулки направляющ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20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5, Сталь 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тулки для шариковых направляющ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ШХ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172" name="Заголовок 1"/>
          <p:cNvSpPr/>
          <p:nvPr/>
        </p:nvSpPr>
        <p:spPr>
          <a:xfrm>
            <a:off x="4795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49280" y="843120"/>
          <a:ext cx="8305920" cy="461772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13372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тали штамп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арка сталей и материал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Рекоменду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Замен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уансонодерж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35, Сталь 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одкладки под пуанс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ъемн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рижимы, направляющие планки, выталкив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0, Сталь 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по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Лови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8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7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Штиф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У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Вин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Пружи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Сталь 65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b76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176" name="Заголовок 1"/>
          <p:cNvSpPr/>
          <p:nvPr/>
        </p:nvSpPr>
        <p:spPr>
          <a:xfrm>
            <a:off x="5256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411120" y="0"/>
            <a:ext cx="85042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зина в штампах применяе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едующих случаях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честве рабочего инструмент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) при вырезке резиной 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гидравлических прессах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ри формовке и гибке н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гидравлических прессах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2) в качестве упругого амортизатора-буфера при штамповке на пресса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(для съемников, выталкивателей, прижимов и т.п.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837000" y="762120"/>
            <a:ext cx="76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езки резиной применяю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зину повышенной тверд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о Шору 70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формовки-гибки рези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ют сорта средней тверд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о Шору 45-65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тяжки резиновой матриц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ют наиболее эласти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рта резины, допуска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ую степень деформаци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669600" y="304920"/>
            <a:ext cx="7697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ические массы применяю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едующих видов штампов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изгото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стью пластмассовы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их детал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блицовки рабочей поверх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ансонов, матриц, прижим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тяжных штампо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крепления пуансонов, колон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тулок, заливки направляющи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ий в съемник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1011600" y="2057400"/>
            <a:ext cx="6944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ибольшее применение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готовления штампов получил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массы на основ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поксидны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енольно-формальдегидны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криловых смо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44080" y="838080"/>
            <a:ext cx="876528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массы на основе эпоксид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л (эпоксипласты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buClr>
                <a:srgbClr val="ffffff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сокая механическая проч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>
                <a:solidFill>
                  <a:srgbClr val="ffffff"/>
                </a:solidFill>
                <a:latin typeface="Verdana"/>
              </a:rPr>
              <a:t>σ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60÷250 МП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) малая усадка (от 0,1 до 0,2%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) высокая адгезия (прилипаемость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) устойчивость к действию влаги и масе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) теплостойкость от -20 до +100°С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0:59Z</dcterms:modified>
  <cp:revision>2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