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B83E-1351-4401-8226-FAC42F028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7F95-FABA-4F8E-8735-F1D8FEF62E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AA1-F48D-4966-A652-2833C76FE4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B30-2E41-452F-B2AC-EAC5B885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C95-7BE7-44BE-BF76-5DE8C21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D17-D099-40C9-BF56-584A7440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0D4-ACC1-48D5-82EA-91CA8532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9671-3362-4C35-B7C0-A8D0C8E0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6B1-1E9F-41F3-827A-F38AECB3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A3EB-8FFC-439A-A53B-7A862DE0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519C-5A74-442F-B2B9-F7F4FF7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D34-74C6-44BF-AF7A-37DB8CB1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F255-DEE6-4ED5-B1E8-C61D05D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046-E2B6-41F0-A595-DAEC853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046-4973-43E7-8CA0-48EEC7CF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2CBF-ED35-4BEE-B8B6-68F82BE8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2189-C2A7-40A5-8C49-F0D849B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2524-6EF8-4CAF-BA91-5F42949F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1958-D54F-4CE6-A749-6E384351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5327-2543-4277-A30D-FC898029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249-BACA-4AF2-9A48-04358F9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320-7303-4C4E-9814-80D05963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5C4-109D-4FF3-A34E-065939C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E64-0EFC-44AB-B092-E82610C8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BDD-1BD7-4741-B33C-CF222B53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A1FE-6C83-42F5-BC75-C6A5E36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518-67EA-45E6-B209-DD187C0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AD77-B086-40EB-969E-E0416DC59CC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E4D7-EEEB-4642-88B2-B9AFECC5178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260720" y="2133720"/>
            <a:ext cx="66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нструмент 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 молотах и пресса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1" name="Объект 5" descr=""/>
          <p:cNvPicPr/>
          <p:nvPr/>
        </p:nvPicPr>
        <p:blipFill>
          <a:blip r:embed="rId1"/>
          <a:stretch/>
        </p:blipFill>
        <p:spPr>
          <a:xfrm>
            <a:off x="2089080" y="1600200"/>
            <a:ext cx="4965840" cy="4530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2359440" y="838080"/>
            <a:ext cx="45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4" name="Объект 4" descr=""/>
          <p:cNvPicPr/>
          <p:nvPr/>
        </p:nvPicPr>
        <p:blipFill>
          <a:blip r:embed="rId1"/>
          <a:stretch/>
        </p:blipFill>
        <p:spPr>
          <a:xfrm>
            <a:off x="2036880" y="1600200"/>
            <a:ext cx="5070240" cy="4530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2220120" y="304920"/>
            <a:ext cx="46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7" name="Объект 4" descr=""/>
          <p:cNvPicPr/>
          <p:nvPr/>
        </p:nvPicPr>
        <p:blipFill>
          <a:blip r:embed="rId1"/>
          <a:stretch/>
        </p:blipFill>
        <p:spPr>
          <a:xfrm>
            <a:off x="457200" y="1673280"/>
            <a:ext cx="8229600" cy="4384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2242440" y="304920"/>
            <a:ext cx="46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1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2044800" y="1600200"/>
            <a:ext cx="5054400" cy="4530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2491920" y="304920"/>
            <a:ext cx="40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кат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2338560" y="304920"/>
            <a:ext cx="427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3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Объект 6" descr=""/>
          <p:cNvPicPr/>
          <p:nvPr/>
        </p:nvPicPr>
        <p:blipFill>
          <a:blip r:embed="rId1"/>
          <a:stretch/>
        </p:blipFill>
        <p:spPr>
          <a:xfrm>
            <a:off x="490680" y="1665360"/>
            <a:ext cx="8162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1877400" y="304920"/>
            <a:ext cx="522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4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64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485640" y="2209680"/>
            <a:ext cx="8229600" cy="4192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1987200" y="228600"/>
            <a:ext cx="522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 треуго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5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Объект 4" descr=""/>
          <p:cNvPicPr/>
          <p:nvPr/>
        </p:nvPicPr>
        <p:blipFill>
          <a:blip r:embed="rId1"/>
          <a:stretch/>
        </p:blipFill>
        <p:spPr>
          <a:xfrm>
            <a:off x="500040" y="213372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7025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ужин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6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Объект 5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2473920" y="228600"/>
            <a:ext cx="38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 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ъем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7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1452600" y="1600200"/>
            <a:ext cx="6238800" cy="45306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2423520" y="304920"/>
            <a:ext cx="445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кладки клинов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8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038600" y="2209680"/>
            <a:ext cx="694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для свободной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разделяется на три группы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997280" y="304920"/>
            <a:ext cx="495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одно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0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Объект 6" descr=""/>
          <p:cNvPicPr/>
          <p:nvPr/>
        </p:nvPicPr>
        <p:blipFill>
          <a:blip r:embed="rId1"/>
          <a:stretch/>
        </p:blipFill>
        <p:spPr>
          <a:xfrm>
            <a:off x="1731960" y="1600200"/>
            <a:ext cx="5680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Объект 4" descr=""/>
          <p:cNvPicPr/>
          <p:nvPr/>
        </p:nvPicPr>
        <p:blipFill>
          <a:blip r:embed="rId1"/>
          <a:stretch/>
        </p:blipFill>
        <p:spPr>
          <a:xfrm>
            <a:off x="457200" y="2225520"/>
            <a:ext cx="8229600" cy="3279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2183400" y="304920"/>
            <a:ext cx="48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двухсторон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29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Объект 4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8229600" cy="44290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1953360" y="304920"/>
            <a:ext cx="54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трапецеидаль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1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Объект 4" descr=""/>
          <p:cNvPicPr/>
          <p:nvPr/>
        </p:nvPicPr>
        <p:blipFill>
          <a:blip r:embed="rId1"/>
          <a:stretch/>
        </p:blipFill>
        <p:spPr>
          <a:xfrm>
            <a:off x="1930320" y="1600200"/>
            <a:ext cx="5283360" cy="4530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2356560" y="228600"/>
            <a:ext cx="44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 полукруг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ГОСТ 11432-75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Объект 4" descr=""/>
          <p:cNvPicPr/>
          <p:nvPr/>
        </p:nvPicPr>
        <p:blipFill>
          <a:blip r:embed="rId1"/>
          <a:stretch/>
        </p:blipFill>
        <p:spPr>
          <a:xfrm>
            <a:off x="923760" y="2494080"/>
            <a:ext cx="729648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2386080" y="380880"/>
            <a:ext cx="46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Объект 4" descr=""/>
          <p:cNvPicPr/>
          <p:nvPr/>
        </p:nvPicPr>
        <p:blipFill>
          <a:blip r:embed="rId1"/>
          <a:stretch/>
        </p:blipFill>
        <p:spPr>
          <a:xfrm>
            <a:off x="457200" y="2014560"/>
            <a:ext cx="8229600" cy="37018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572200" y="3808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 для к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Объект 4" descr=""/>
          <p:cNvPicPr/>
          <p:nvPr/>
        </p:nvPicPr>
        <p:blipFill>
          <a:blip r:embed="rId1"/>
          <a:stretch/>
        </p:blipFill>
        <p:spPr>
          <a:xfrm>
            <a:off x="1465200" y="1600200"/>
            <a:ext cx="6213600" cy="45306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2536560" y="380880"/>
            <a:ext cx="431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231200" y="2362320"/>
            <a:ext cx="61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ы дл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841320" y="2311560"/>
            <a:ext cx="745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 цельные, сменные надста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ладыши к бойка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Г, 40ХН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2422800" y="2433600"/>
            <a:ext cx="468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иты для ос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ваные Ст 3, 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ые сталь 35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287640" y="1679400"/>
            <a:ext cx="861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ной технолог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ки, плиты для осадки, оправ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ки, кольца, раскатки, угол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обжимки, топо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1875960" y="2133720"/>
            <a:ext cx="445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поры, просеч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5ХМ, 5ХНВ, 7Х3, 8Х3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ГМ, 5ХН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830880" y="243828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сплошные и пустотелы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, 50Х, 5ХНВ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847880" y="2449440"/>
            <a:ext cx="52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ставки к прошивням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50, 5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1136520" y="2387520"/>
            <a:ext cx="699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жимки, раскатки, подклад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1548000" y="213372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жим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40, сталь 45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7, 40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559160" y="1371600"/>
            <a:ext cx="5717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скатки и вытяж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40, сталь 5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ХН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либро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, сталь 50Х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831320" y="1676520"/>
            <a:ext cx="499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5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аль 50, 5ХГ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155320" y="2197080"/>
            <a:ext cx="473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чки к топорам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му инструменту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, сталь 15, сталь 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745640" y="2209680"/>
            <a:ext cx="57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15, сталь 20, сталь 25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2961360" y="2176560"/>
            <a:ext cx="285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рон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, 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ове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 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133280" y="2311560"/>
            <a:ext cx="695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 Поддерживающи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щи, стойки, патр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2133360" y="1905120"/>
            <a:ext cx="4848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и для раскат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нование и подста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ь 3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адыш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ХН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655200" y="2133720"/>
            <a:ext cx="77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 Мерительный инструмен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нциркули, угольники, нутромер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нейки, калибры, шаблон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38960" y="2819520"/>
            <a:ext cx="615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струмент подразделяют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иверсальный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циализированн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Объект 4" descr=""/>
          <p:cNvPicPr/>
          <p:nvPr/>
        </p:nvPicPr>
        <p:blipFill>
          <a:blip r:embed="rId1"/>
          <a:stretch/>
        </p:blipFill>
        <p:spPr>
          <a:xfrm>
            <a:off x="1892160" y="1600200"/>
            <a:ext cx="5359680" cy="453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2605320" y="76212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ца оправо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Объект 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070600" cy="4530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2381040" y="76212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кузнечн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Объект 4" descr=""/>
          <p:cNvPicPr/>
          <p:nvPr/>
        </p:nvPicPr>
        <p:blipFill>
          <a:blip r:embed="rId1"/>
          <a:stretch/>
        </p:blipFill>
        <p:spPr>
          <a:xfrm>
            <a:off x="2266920" y="1712880"/>
            <a:ext cx="4610160" cy="43052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3"/>
          <p:cNvSpPr/>
          <p:nvPr/>
        </p:nvSpPr>
        <p:spPr>
          <a:xfrm>
            <a:off x="2318040" y="380880"/>
            <a:ext cx="47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ивни пустотел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1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