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CB2C-44DB-4089-A8ED-868E7F4591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59F9-61C4-4865-B28A-866DD0AAE5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892F-5D37-4367-A26E-77E05BC6EC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931-B151-4D42-A6F8-71A3E6BC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AB2-3C5A-41CE-B437-321620B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3AD-7AE9-4AC4-85BE-8A3FFCDC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CEA-98EF-423D-B6F7-C6C48425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8922-3F58-4DB8-A299-D512EC4A2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2330-7B8F-41BA-8072-4FFB4281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B271-60AF-4D02-B61F-D250DD39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66D9-312C-42EA-B8B8-BA061D99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0758-7910-4913-82EE-8F97E9E7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E32B-14EA-44E5-9636-84B7A229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09D3-F6F5-47E0-A197-39C60603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4A2-F96C-4D75-830D-981EA441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2070-0F63-4724-B34F-7F4E814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A7DB-947A-4DB2-8F8B-A8E8A12E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CFF7-F62D-403E-B0AC-8B4BD7BF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74CE-A892-4FA4-A2DC-EAD03122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AF7D-12EB-4F03-8A37-6B3B5AFA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E3D-CF4D-4589-932A-BF358253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C6A-BA26-4F0F-A8A8-C7F60011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2504-6D2F-43A7-8ACE-F4B18B5F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CBA-D833-4A6C-BA28-4D524B2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167-020A-429C-8A5E-D55E6E7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E26-6418-4EB6-B88D-C0C7CF18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13D-4FF0-4034-811A-CCAB0F05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E946-6B96-4096-B512-15E7987D196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3FA3-2B9B-4148-B05C-74919E5FFCB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277280" y="2133720"/>
            <a:ext cx="6592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Чистота обработки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деталей 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листово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805680" y="2222640"/>
            <a:ext cx="711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иды обработ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 чистота поверхност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2682720" y="428760"/>
            <a:ext cx="30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 до 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2518200" y="2743200"/>
            <a:ext cx="347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нке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н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2347920" y="1371600"/>
            <a:ext cx="3535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рты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3,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1,6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0,8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0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485440" y="1143000"/>
            <a:ext cx="3620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н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100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3,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280600" y="1371600"/>
            <a:ext cx="376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г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арите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0 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2531880" y="1600200"/>
            <a:ext cx="376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резе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арите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20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z2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5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,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2585160" y="1447920"/>
            <a:ext cx="376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ф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арите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2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в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997280" y="2514600"/>
            <a:ext cx="457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фование-отдел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1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2443320" y="1371600"/>
            <a:ext cx="3768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тир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б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8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ня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н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1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2459880" y="1905120"/>
            <a:ext cx="376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нинг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,6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ркаль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4 до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92120" y="1600200"/>
            <a:ext cx="8152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не требу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й обрабо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ровальные отверстия плит штампов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80 до 4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400120" y="2401920"/>
            <a:ext cx="35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б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,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731160" y="1676520"/>
            <a:ext cx="7491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деталей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прикасающиеся с друг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ями, а также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сверления или зенкеровани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40 до 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905040" y="1600200"/>
            <a:ext cx="746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ные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особых требова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ыступающая часть хвостовик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ные поверхности винтов и т.п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z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20 до 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10720" y="1600200"/>
            <a:ext cx="7425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орные поверхности плит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ычной точности, держате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ов и матриц, отверстия по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зку, соединение профиль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ов с пуансонодержателя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2,5 до 1,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604080" y="1600200"/>
            <a:ext cx="8107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отверстий для посад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2-му классу точности, прилега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деталей пакет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новочные штифты, упор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рессовываемая ча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 и втулок и т.п.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1,25 до 0,6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Box 3"/>
          <p:cNvSpPr/>
          <p:nvPr/>
        </p:nvSpPr>
        <p:spPr>
          <a:xfrm>
            <a:off x="665640" y="1600200"/>
            <a:ext cx="7558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ая часть направля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нок и втулок, изготовляемых п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-му классу точност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ая поверхность большин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бных и гибочных штамп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вытяжных пуансон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0,63 до 0,3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376200" y="762120"/>
            <a:ext cx="7718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ая поверхность вытяж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 и складкодержателей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жущие поверхности выруб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х штампов, рабоч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штампов для холод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давливания, направляющ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ь колонок и отверс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втулок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тавливаемых по 1-м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ссу точнос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0,16 до 0,0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736920" y="1066680"/>
            <a:ext cx="7747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ая поверхность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х штампов, в част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шариковым направление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ие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ообразующих штампов п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ышенных требованиях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0,08 до 0,0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39Z</dcterms:modified>
  <cp:revision>2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